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12F6-C879-4E0F-8F6E-47353AD64A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must always be understood as those with the best understanding of the common goo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east where a random person among us prepares an entire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east where we all bring different d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east where a great chef prepares the entire meal (perhaps with assistance from some of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that analogy does not work for you,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dom person among you gives you a lecture about 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contribute our research about Aristotle to the wiki, and correct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eat Aristotle scholar gives you a lectu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however, another dispute: proponents of the rule of law will not accept the previous argument. Why should you give uncontrolle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rong with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arguments are due to Pla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a population naturally produces a family of outstanding excell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ogy with marriage is due to Richard Kraut: the point is that trying to restran an exceptional individual like that by law destroys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restrain god by la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starts with an approximate typology of regimes, but the arguments he presents in book III allow you to rank them and distinguish them more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the time we get to the end of book III, and in fact by the end of the Politics, the original typology of regimes has chang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the good of a pa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nitial tabl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n’t you want to be ruled by people who are just, moderate, courageous, honest, etc.? Wouldn’t you want to be just, moderate, courageous,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tes require both wealth and freedom to exist, but they require virtue to be ruled properly. It’s only when a particular claim is pushed to the extreme that it become wrong. So much of book III is about showing that, assuming differences in virtue are not too great, all the different claims to rule should be given their d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perts we need to understand something like people with a good understanding of the commo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gument is basically Pla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thinks that most individuals, taken separately, cannot be all that virtu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ers, for example, spend too much time enslaved to necessity: their views of the good are too narrow, too centered on their own immediate interest, and in general in order to become virtuous you must have a good nature and have received a goo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althy people spend too much time thinking about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genera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quet analogy: a random person among us may not be better than all together at preparing a banquet; some may be good at some things, others at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est this analogy by running a little experiment (apologies to those in tutorial who have already done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are 157 dots: 80 red, and 77 blue on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with virtue must guide the delib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nditions mentioned before are satisfi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582C2-DCBF-49BC-8238-B2C17C134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E451D-35DD-4919-9761-DBB69FCF7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FBFBE-10CD-4465-BF53-7EBD0A869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F4C14-7B74-40C4-9853-28F883307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F3CF-33D1-40F2-B7E4-D2AADEB8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A6A6-283F-43D9-A0E9-6BE045616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93FA-93BC-4FF9-8C3E-446AA89D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9C9D8-04CF-4BFA-B148-B0147028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769A4-B6A0-4912-93E4-83B680C8C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54E5-D3AF-4A5B-B49E-A8EB51A57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B123E-9A5A-40DB-A922-CAFC1A80A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7DB1-51EB-40CA-B31D-FC27210BC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755A-59CB-4376-BBEC-D431B3202B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08000" y="0"/>
            <a:ext cx="56484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Aristotle </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25 July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this a defence of democracy?</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mocracy is not always wrong: “polity” is in fact a correct reg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ever, Aristotle refuses to conclude that it is the best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collectively are good at judging, not at rul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however, some role for the people in all correct reg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2916360" y="2205000"/>
            <a:ext cx="3171600" cy="333396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ingship and aristocracy</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ost reasonable claim to rule is that the best (the most virtuous) should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der what conditions then are kingship and aristocracy the best reg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 the banquet analogy</a:t>
            </a:r>
            <a:endParaRPr b="0" lang="en-US" sz="4400" spc="-1" strike="noStrike">
              <a:solidFill>
                <a:srgbClr val="000000"/>
              </a:solidFill>
              <a:latin typeface="Arial"/>
            </a:endParaRPr>
          </a:p>
        </p:txBody>
      </p:sp>
      <p:pic>
        <p:nvPicPr>
          <p:cNvPr id="135" name="" descr=""/>
          <p:cNvPicPr/>
          <p:nvPr/>
        </p:nvPicPr>
        <p:blipFill>
          <a:blip r:embed="rId1"/>
          <a:stretch/>
        </p:blipFill>
        <p:spPr>
          <a:xfrm>
            <a:off x="3081240" y="1824120"/>
            <a:ext cx="298152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kingship and aristocracy are better</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tude together may be better than the single, random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 few or one person might be better than the multitude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be unjust to treat these people equally with the 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ship/aristocracy by such people is therefore better than democ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rule of law disputes with absolute kingship</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nents of king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ly provides general principles, not enough guidance for specific c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stice of law depends on the justice of the constit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s do not bound themselves by written ru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rule of law disputes with absolute kingship</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ponents of la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dividual judgments must include the general principle: the law educates individual judg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dividual judgment can be corrupted, while the multitude or the few ruled by law is less corrupt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2916360" y="2205000"/>
            <a:ext cx="3171600" cy="333396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Aristotle’s view?</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ome cases absolute kingship is still better than the rule of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sider marriage</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uld you hire a detective to spy on your partner even if you thought they were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w as destructive of tr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sider theocracy</a:t>
            </a:r>
            <a:endParaRPr b="0" lang="en-US" sz="4400" spc="-1" strike="noStrike">
              <a:solidFill>
                <a:srgbClr val="000000"/>
              </a:solidFill>
              <a:latin typeface="Arial"/>
            </a:endParaRPr>
          </a:p>
        </p:txBody>
      </p:sp>
      <p:pic>
        <p:nvPicPr>
          <p:cNvPr id="148" name="" descr=""/>
          <p:cNvPicPr/>
          <p:nvPr/>
        </p:nvPicPr>
        <p:blipFill>
          <a:blip r:embed="rId1"/>
          <a:stretch/>
        </p:blipFill>
        <p:spPr>
          <a:xfrm>
            <a:off x="395280" y="1341360"/>
            <a:ext cx="8353440" cy="428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Original view of regimes</a:t>
            </a:r>
            <a:endParaRPr b="0" lang="en-US" sz="4000" spc="-1" strike="noStrike">
              <a:solidFill>
                <a:srgbClr val="000000"/>
              </a:solidFill>
              <a:latin typeface="Arial"/>
            </a:endParaRPr>
          </a:p>
        </p:txBody>
      </p:sp>
      <p:sp>
        <p:nvSpPr>
          <p:cNvPr id="150"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common inter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onarc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ristocr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lity</a:t>
            </a:r>
            <a:endParaRPr b="0" lang="en-US" sz="2400" spc="-1" strike="noStrike">
              <a:solidFill>
                <a:srgbClr val="000000"/>
              </a:solidFill>
              <a:latin typeface="Arial"/>
            </a:endParaRPr>
          </a:p>
        </p:txBody>
      </p:sp>
      <p:sp>
        <p:nvSpPr>
          <p:cNvPr id="151" name="PlaceHolder 3"/>
          <p:cNvSpPr>
            <a:spLocks noGrp="1"/>
          </p:cNvSpPr>
          <p:nvPr>
            <p:ph/>
          </p:nvPr>
        </p:nvSpPr>
        <p:spPr>
          <a:xfrm>
            <a:off x="457200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interest of a p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yrann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ligarch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wealth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ocrac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poor</a:t>
            </a:r>
            <a:endParaRPr b="0" lang="en-US" sz="2000" spc="-1" strike="noStrike">
              <a:solidFill>
                <a:srgbClr val="000000"/>
              </a:solidFill>
              <a:latin typeface="Arial"/>
            </a:endParaRPr>
          </a:p>
        </p:txBody>
      </p:sp>
      <p:sp>
        <p:nvSpPr>
          <p:cNvPr id="152" name=""/>
          <p:cNvSpPr/>
          <p:nvPr/>
        </p:nvSpPr>
        <p:spPr>
          <a:xfrm>
            <a:off x="2916360" y="1341360"/>
            <a:ext cx="31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x Basic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50">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50">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0">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51">
                                            <p:txEl>
                                              <p:pRg st="0" end="0"/>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1">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51">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1">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1">
                                            <p:txEl>
                                              <p:pRg st="4" end="4"/>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st regim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st regimes or constitu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ere the rulers rule for the common go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ought to rule for the regime to be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ith the best understanding of/best ability to contribute to the common good = the virtu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 revised view of regime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st regime one can hope for (books VII and VIII), ruled by many good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solute kingship/aristocracy of one or many virtuous men (book I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xtures: polity, moderate democracy, moderate aristocracy (books IV-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yrannies: of one person, of the many poor, of the few ri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best regim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egime of citizens who are all good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o are good m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who have a fairly correct understanding of the human good = the virtuo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correct understanding of the human good includes the common go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is this b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necessary for a regime to be composed of good people?</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rect view of the good life, shared by the citize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from necess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rate amount of weal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of slaves or foreigners to labour (or machin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equality of weal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prevent divergence of material interes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ommunity, in a good sit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monitor the character of other citizens and prevent invasion by less good regim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reproduce the correct view of the common goo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genic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preserve good nat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58">
                                            <p:txEl>
                                              <p:pRg st="8" end="8"/>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58">
                                            <p:txEl>
                                              <p:pRg st="9" end="9"/>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8">
                                            <p:txEl>
                                              <p:pRg st="10" end="1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such a regime look lik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of all in deliberating about the common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 would be just, moderate, courageou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leisure in activities which are good for their own sake: art, science, reli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lso: private life would be tightly regulated, including “personal” deci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60">
                                            <p:txEl>
                                              <p:pRg st="1" end="1"/>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60">
                                            <p:txEl>
                                              <p:pRg st="2" end="2"/>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such a regime act in the world?</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not pursue war for its own sake: participation in politics is not about the pursuit of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t might assume leadership over other free </a:t>
            </a:r>
            <a:r>
              <a:rPr b="0" i="1" lang="en-US" sz="3200" spc="-1" strike="noStrike">
                <a:solidFill>
                  <a:srgbClr val="000000"/>
                </a:solidFill>
                <a:latin typeface="Arial"/>
              </a:rPr>
              <a:t>poleis</a:t>
            </a:r>
            <a:r>
              <a:rPr b="0" lang="en-US" sz="3200" spc="-1" strike="noStrike">
                <a:solidFill>
                  <a:srgbClr val="000000"/>
                </a:solidFill>
                <a:latin typeface="Arial"/>
              </a:rPr>
              <a:t>, and it would be fit to rule over natural 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Aristotle’s view of politics convincing?</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tential obj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ingle or objectively correct view of the common good and the good l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tle’s view of the common good and the good life is mistak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s should be about matters about which we can agree – protection against obvious harms – not about the good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the common goo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in imperfect regimes will disagree about the common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d hence will disagree about who ought to share in rule (be a citize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ims to authori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the claims to r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alth = oligarc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eedom = democ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irth (a proxy for virtue) = aristocracy/king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w = all “constitutional” govern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n a sense right and wr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role of the peopl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ligarch and the aristocrat dispute the claim of the peo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jority of the people are not good judges of the common good: experts are (i.e., the virtuo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individuals, taken separately, are not all that virtuous</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s the crowd superior in wisdom to the few?</a:t>
            </a:r>
            <a:endParaRPr b="0" lang="en-US" sz="4000" spc="-1" strike="noStrike">
              <a:solidFill>
                <a:srgbClr val="000000"/>
              </a:solidFill>
              <a:latin typeface="Arial"/>
            </a:endParaRPr>
          </a:p>
        </p:txBody>
      </p:sp>
      <p:pic>
        <p:nvPicPr>
          <p:cNvPr id="60" name="" descr=""/>
          <p:cNvPicPr/>
          <p:nvPr/>
        </p:nvPicPr>
        <p:blipFill>
          <a:blip r:embed="rId1"/>
          <a:stretch/>
        </p:blipFill>
        <p:spPr>
          <a:xfrm>
            <a:off x="2700360" y="1413000"/>
            <a:ext cx="3824280" cy="52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unt</a:t>
            </a:r>
            <a:endParaRPr b="0" lang="en-US" sz="4400" spc="-1" strike="noStrike">
              <a:solidFill>
                <a:srgbClr val="000000"/>
              </a:solidFill>
              <a:latin typeface="Arial"/>
            </a:endParaRPr>
          </a:p>
        </p:txBody>
      </p:sp>
      <p:sp>
        <p:nvSpPr>
          <p:cNvPr id="62" name=""/>
          <p:cNvSpPr/>
          <p:nvPr/>
        </p:nvSpPr>
        <p:spPr>
          <a:xfrm>
            <a:off x="2808360" y="2043000"/>
            <a:ext cx="357120" cy="1386000"/>
          </a:xfrm>
          <a:custGeom>
            <a:avLst/>
            <a:gdLst/>
            <a:ahLst/>
            <a:rect l="l" t="t" r="r" b="b"/>
            <a:pathLst>
              <a:path w="993" h="3851">
                <a:moveTo>
                  <a:pt x="8315" y="6013"/>
                </a:moveTo>
                <a:lnTo>
                  <a:pt x="8315" y="6013"/>
                </a:lnTo>
              </a:path>
              <a:path w="993" h="3851">
                <a:moveTo>
                  <a:pt x="8334" y="6886"/>
                </a:moveTo>
                <a:lnTo>
                  <a:pt x="8334" y="6886"/>
                </a:lnTo>
              </a:path>
              <a:path w="993" h="3851">
                <a:moveTo>
                  <a:pt x="8235" y="7898"/>
                </a:moveTo>
                <a:lnTo>
                  <a:pt x="8235" y="7898"/>
                </a:lnTo>
              </a:path>
              <a:path w="993" h="3851">
                <a:moveTo>
                  <a:pt x="8791" y="8612"/>
                </a:moveTo>
                <a:lnTo>
                  <a:pt x="8791" y="8612"/>
                </a:lnTo>
              </a:path>
              <a:path w="993" h="3851">
                <a:moveTo>
                  <a:pt x="7938" y="5675"/>
                </a:moveTo>
                <a:lnTo>
                  <a:pt x="7938" y="5675"/>
                </a:lnTo>
              </a:path>
              <a:path w="993" h="3851">
                <a:moveTo>
                  <a:pt x="7799" y="6648"/>
                </a:moveTo>
                <a:lnTo>
                  <a:pt x="7799" y="6648"/>
                </a:lnTo>
              </a:path>
              <a:path w="993" h="3851">
                <a:moveTo>
                  <a:pt x="7838" y="7838"/>
                </a:moveTo>
                <a:lnTo>
                  <a:pt x="7838" y="7838"/>
                </a:lnTo>
              </a:path>
              <a:path w="993" h="3851">
                <a:moveTo>
                  <a:pt x="7977" y="8830"/>
                </a:moveTo>
                <a:lnTo>
                  <a:pt x="7977" y="8830"/>
                </a:lnTo>
              </a:path>
              <a:path w="993" h="3851">
                <a:moveTo>
                  <a:pt x="8652" y="9525"/>
                </a:moveTo>
                <a:lnTo>
                  <a:pt x="8652" y="9525"/>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192480" y="1936800"/>
            <a:ext cx="487440" cy="1620720"/>
          </a:xfrm>
          <a:custGeom>
            <a:avLst/>
            <a:gdLst/>
            <a:ahLst/>
            <a:rect l="l" t="t" r="r" b="b"/>
            <a:pathLst>
              <a:path w="1351" h="4505">
                <a:moveTo>
                  <a:pt x="9882" y="7918"/>
                </a:moveTo>
                <a:lnTo>
                  <a:pt x="9882" y="7918"/>
                </a:lnTo>
              </a:path>
              <a:path w="1351" h="4505">
                <a:moveTo>
                  <a:pt x="10220" y="8890"/>
                </a:moveTo>
                <a:lnTo>
                  <a:pt x="10220" y="8890"/>
                </a:lnTo>
              </a:path>
              <a:path w="1351" h="4505">
                <a:moveTo>
                  <a:pt x="9644" y="8711"/>
                </a:moveTo>
                <a:cubicBezTo>
                  <a:pt x="9644" y="8705"/>
                  <a:pt x="9644" y="8698"/>
                  <a:pt x="9644" y="8692"/>
                </a:cubicBezTo>
              </a:path>
              <a:path w="1351" h="4505">
                <a:moveTo>
                  <a:pt x="8870" y="7302"/>
                </a:moveTo>
                <a:lnTo>
                  <a:pt x="8870" y="7302"/>
                </a:lnTo>
              </a:path>
              <a:path w="1351" h="4505">
                <a:moveTo>
                  <a:pt x="9604" y="7144"/>
                </a:moveTo>
                <a:lnTo>
                  <a:pt x="9604" y="7144"/>
                </a:lnTo>
              </a:path>
              <a:path w="1351" h="4505">
                <a:moveTo>
                  <a:pt x="9108" y="8076"/>
                </a:moveTo>
                <a:lnTo>
                  <a:pt x="9108" y="8076"/>
                </a:lnTo>
              </a:path>
              <a:path w="1351" h="4505">
                <a:moveTo>
                  <a:pt x="9049" y="6410"/>
                </a:moveTo>
                <a:lnTo>
                  <a:pt x="9049" y="6410"/>
                </a:lnTo>
              </a:path>
              <a:path w="1351" h="4505">
                <a:moveTo>
                  <a:pt x="9783" y="6608"/>
                </a:moveTo>
                <a:lnTo>
                  <a:pt x="9783" y="6608"/>
                </a:lnTo>
              </a:path>
              <a:path w="1351" h="4505">
                <a:moveTo>
                  <a:pt x="8989" y="5378"/>
                </a:moveTo>
                <a:lnTo>
                  <a:pt x="8989" y="5378"/>
                </a:lnTo>
              </a:path>
              <a:path w="1351" h="4505">
                <a:moveTo>
                  <a:pt x="9088" y="8989"/>
                </a:moveTo>
                <a:lnTo>
                  <a:pt x="9088" y="8989"/>
                </a:lnTo>
              </a:path>
              <a:path w="1351" h="4505">
                <a:moveTo>
                  <a:pt x="9882" y="9485"/>
                </a:moveTo>
                <a:lnTo>
                  <a:pt x="9882" y="9485"/>
                </a:lnTo>
              </a:path>
              <a:path w="1351" h="4505">
                <a:moveTo>
                  <a:pt x="9426" y="6707"/>
                </a:moveTo>
                <a:lnTo>
                  <a:pt x="9426" y="6707"/>
                </a:lnTo>
              </a:path>
              <a:path w="1351" h="4505">
                <a:moveTo>
                  <a:pt x="8950" y="5953"/>
                </a:moveTo>
                <a:lnTo>
                  <a:pt x="8950" y="5953"/>
                </a:lnTo>
              </a:path>
              <a:path w="1351" h="4505">
                <a:moveTo>
                  <a:pt x="9525" y="9882"/>
                </a:moveTo>
                <a:lnTo>
                  <a:pt x="9525" y="988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592440" y="1763640"/>
            <a:ext cx="1301760" cy="1816200"/>
          </a:xfrm>
          <a:custGeom>
            <a:avLst/>
            <a:gdLst/>
            <a:ahLst/>
            <a:rect l="l" t="t" r="r" b="b"/>
            <a:pathLst>
              <a:path w="3613" h="5042">
                <a:moveTo>
                  <a:pt x="10874" y="8076"/>
                </a:moveTo>
                <a:lnTo>
                  <a:pt x="10874" y="8076"/>
                </a:lnTo>
              </a:path>
              <a:path w="3613" h="5042">
                <a:moveTo>
                  <a:pt x="10716" y="6727"/>
                </a:moveTo>
                <a:lnTo>
                  <a:pt x="10716" y="6727"/>
                </a:lnTo>
              </a:path>
              <a:path w="3613" h="5042">
                <a:moveTo>
                  <a:pt x="10597" y="7362"/>
                </a:moveTo>
                <a:cubicBezTo>
                  <a:pt x="10590" y="7362"/>
                  <a:pt x="10584" y="7362"/>
                  <a:pt x="10577" y="7362"/>
                </a:cubicBezTo>
              </a:path>
              <a:path w="3613" h="5042">
                <a:moveTo>
                  <a:pt x="11609" y="7481"/>
                </a:moveTo>
                <a:lnTo>
                  <a:pt x="11609" y="7481"/>
                </a:lnTo>
              </a:path>
              <a:path w="3613" h="5042">
                <a:moveTo>
                  <a:pt x="11569" y="6727"/>
                </a:moveTo>
                <a:cubicBezTo>
                  <a:pt x="11562" y="6727"/>
                  <a:pt x="11556" y="6727"/>
                  <a:pt x="11549" y="6727"/>
                </a:cubicBezTo>
              </a:path>
              <a:path w="3613" h="5042">
                <a:moveTo>
                  <a:pt x="11251" y="7164"/>
                </a:moveTo>
                <a:lnTo>
                  <a:pt x="11251" y="7164"/>
                </a:lnTo>
              </a:path>
              <a:path w="3613" h="5042">
                <a:moveTo>
                  <a:pt x="11331" y="8017"/>
                </a:moveTo>
                <a:lnTo>
                  <a:pt x="11331" y="8017"/>
                </a:lnTo>
              </a:path>
              <a:path w="3613" h="5042">
                <a:moveTo>
                  <a:pt x="11549" y="8453"/>
                </a:moveTo>
                <a:lnTo>
                  <a:pt x="11549" y="8453"/>
                </a:lnTo>
              </a:path>
              <a:path w="3613" h="5042">
                <a:moveTo>
                  <a:pt x="11251" y="8652"/>
                </a:moveTo>
                <a:lnTo>
                  <a:pt x="11251" y="8652"/>
                </a:lnTo>
              </a:path>
              <a:path w="3613" h="5042">
                <a:moveTo>
                  <a:pt x="10914" y="8692"/>
                </a:moveTo>
                <a:lnTo>
                  <a:pt x="10914" y="8692"/>
                </a:lnTo>
              </a:path>
              <a:path w="3613" h="5042">
                <a:moveTo>
                  <a:pt x="10458" y="8374"/>
                </a:moveTo>
                <a:lnTo>
                  <a:pt x="10458" y="8374"/>
                </a:lnTo>
              </a:path>
              <a:path w="3613" h="5042">
                <a:moveTo>
                  <a:pt x="10061" y="6132"/>
                </a:moveTo>
                <a:lnTo>
                  <a:pt x="10061" y="6132"/>
                </a:lnTo>
              </a:path>
              <a:path w="3613" h="5042">
                <a:moveTo>
                  <a:pt x="10259" y="6886"/>
                </a:moveTo>
                <a:cubicBezTo>
                  <a:pt x="10259" y="6879"/>
                  <a:pt x="10259" y="6873"/>
                  <a:pt x="10259" y="6866"/>
                </a:cubicBezTo>
              </a:path>
              <a:path w="3613" h="5042">
                <a:moveTo>
                  <a:pt x="10557" y="6013"/>
                </a:moveTo>
                <a:cubicBezTo>
                  <a:pt x="10557" y="6006"/>
                  <a:pt x="10557" y="6000"/>
                  <a:pt x="10557" y="5993"/>
                </a:cubicBezTo>
              </a:path>
              <a:path w="3613" h="5042">
                <a:moveTo>
                  <a:pt x="11093" y="6410"/>
                </a:moveTo>
                <a:lnTo>
                  <a:pt x="11093" y="6410"/>
                </a:lnTo>
              </a:path>
              <a:path w="3613" h="5042">
                <a:moveTo>
                  <a:pt x="11291" y="5735"/>
                </a:moveTo>
                <a:lnTo>
                  <a:pt x="11291" y="5735"/>
                </a:lnTo>
              </a:path>
              <a:path w="3613" h="5042">
                <a:moveTo>
                  <a:pt x="11827" y="6231"/>
                </a:moveTo>
                <a:lnTo>
                  <a:pt x="11827" y="6231"/>
                </a:lnTo>
              </a:path>
              <a:path w="3613" h="5042">
                <a:moveTo>
                  <a:pt x="12859" y="7005"/>
                </a:moveTo>
                <a:lnTo>
                  <a:pt x="12859" y="7005"/>
                </a:lnTo>
              </a:path>
              <a:path w="3613" h="5042">
                <a:moveTo>
                  <a:pt x="12224" y="7164"/>
                </a:moveTo>
                <a:cubicBezTo>
                  <a:pt x="12224" y="7151"/>
                  <a:pt x="12224" y="7137"/>
                  <a:pt x="12224" y="7124"/>
                </a:cubicBezTo>
              </a:path>
              <a:path w="3613" h="5042">
                <a:moveTo>
                  <a:pt x="12283" y="6370"/>
                </a:moveTo>
                <a:lnTo>
                  <a:pt x="12283" y="6370"/>
                </a:lnTo>
              </a:path>
              <a:path w="3613" h="5042">
                <a:moveTo>
                  <a:pt x="12839" y="6290"/>
                </a:moveTo>
                <a:lnTo>
                  <a:pt x="12839" y="6290"/>
                </a:lnTo>
              </a:path>
              <a:path w="3613" h="5042">
                <a:moveTo>
                  <a:pt x="12363" y="5735"/>
                </a:moveTo>
                <a:lnTo>
                  <a:pt x="12363" y="5735"/>
                </a:lnTo>
              </a:path>
              <a:path w="3613" h="5042">
                <a:moveTo>
                  <a:pt x="11886" y="5338"/>
                </a:moveTo>
                <a:lnTo>
                  <a:pt x="11886" y="5338"/>
                </a:lnTo>
              </a:path>
              <a:path w="3613" h="5042">
                <a:moveTo>
                  <a:pt x="12164" y="4901"/>
                </a:moveTo>
                <a:lnTo>
                  <a:pt x="12164" y="4901"/>
                </a:lnTo>
                <a:lnTo>
                  <a:pt x="12164" y="4901"/>
                </a:lnTo>
              </a:path>
              <a:path w="3613" h="5042">
                <a:moveTo>
                  <a:pt x="12442" y="5318"/>
                </a:moveTo>
                <a:lnTo>
                  <a:pt x="12442" y="5318"/>
                </a:lnTo>
              </a:path>
              <a:path w="3613" h="5042">
                <a:moveTo>
                  <a:pt x="12958" y="5715"/>
                </a:moveTo>
                <a:lnTo>
                  <a:pt x="12958" y="5715"/>
                </a:lnTo>
              </a:path>
              <a:path w="3613" h="5042">
                <a:moveTo>
                  <a:pt x="13494" y="6410"/>
                </a:moveTo>
                <a:lnTo>
                  <a:pt x="13494" y="6410"/>
                </a:lnTo>
              </a:path>
              <a:path w="3613" h="5042">
                <a:moveTo>
                  <a:pt x="13514" y="6886"/>
                </a:moveTo>
                <a:lnTo>
                  <a:pt x="13514" y="6886"/>
                </a:lnTo>
              </a:path>
              <a:path w="3613" h="5042">
                <a:moveTo>
                  <a:pt x="13514" y="7501"/>
                </a:moveTo>
                <a:lnTo>
                  <a:pt x="13514" y="7501"/>
                </a:lnTo>
              </a:path>
              <a:path w="3613" h="5042">
                <a:moveTo>
                  <a:pt x="12859" y="7521"/>
                </a:moveTo>
                <a:lnTo>
                  <a:pt x="12859" y="7521"/>
                </a:lnTo>
              </a:path>
              <a:path w="3613" h="5042">
                <a:moveTo>
                  <a:pt x="12938" y="8195"/>
                </a:moveTo>
                <a:lnTo>
                  <a:pt x="12938" y="8195"/>
                </a:lnTo>
              </a:path>
              <a:path w="3613" h="5042">
                <a:moveTo>
                  <a:pt x="12105" y="7799"/>
                </a:moveTo>
                <a:lnTo>
                  <a:pt x="12105" y="7799"/>
                </a:lnTo>
              </a:path>
              <a:path w="3613" h="5042">
                <a:moveTo>
                  <a:pt x="12422" y="8632"/>
                </a:moveTo>
                <a:lnTo>
                  <a:pt x="12422" y="8632"/>
                </a:lnTo>
              </a:path>
              <a:path w="3613" h="5042">
                <a:moveTo>
                  <a:pt x="12045" y="8969"/>
                </a:moveTo>
                <a:lnTo>
                  <a:pt x="12045" y="8969"/>
                </a:lnTo>
              </a:path>
              <a:path w="3613" h="5042">
                <a:moveTo>
                  <a:pt x="11648" y="9029"/>
                </a:moveTo>
                <a:lnTo>
                  <a:pt x="11648" y="9029"/>
                </a:lnTo>
              </a:path>
              <a:path w="3613" h="5042">
                <a:moveTo>
                  <a:pt x="12720" y="9505"/>
                </a:moveTo>
                <a:lnTo>
                  <a:pt x="12720" y="9505"/>
                </a:lnTo>
              </a:path>
              <a:path w="3613" h="5042">
                <a:moveTo>
                  <a:pt x="12938" y="8830"/>
                </a:moveTo>
                <a:lnTo>
                  <a:pt x="12938" y="8830"/>
                </a:lnTo>
              </a:path>
              <a:path w="3613" h="5042">
                <a:moveTo>
                  <a:pt x="13494" y="8771"/>
                </a:moveTo>
                <a:lnTo>
                  <a:pt x="13494" y="8771"/>
                </a:lnTo>
              </a:path>
              <a:path w="3613" h="5042">
                <a:moveTo>
                  <a:pt x="13533" y="7957"/>
                </a:moveTo>
                <a:lnTo>
                  <a:pt x="13533" y="7957"/>
                </a:lnTo>
              </a:path>
              <a:path w="3613" h="5042">
                <a:moveTo>
                  <a:pt x="10616" y="9188"/>
                </a:moveTo>
                <a:lnTo>
                  <a:pt x="10616" y="9188"/>
                </a:lnTo>
              </a:path>
              <a:path w="3613" h="5042">
                <a:moveTo>
                  <a:pt x="10795" y="9684"/>
                </a:moveTo>
                <a:lnTo>
                  <a:pt x="10795" y="9684"/>
                </a:lnTo>
              </a:path>
              <a:path w="3613" h="5042">
                <a:moveTo>
                  <a:pt x="11212" y="9565"/>
                </a:moveTo>
                <a:lnTo>
                  <a:pt x="11212" y="9565"/>
                </a:lnTo>
              </a:path>
              <a:path w="3613" h="5042">
                <a:moveTo>
                  <a:pt x="11827" y="9942"/>
                </a:moveTo>
                <a:lnTo>
                  <a:pt x="11827" y="9942"/>
                </a:lnTo>
              </a:path>
              <a:path w="3613" h="5042">
                <a:moveTo>
                  <a:pt x="12105" y="8275"/>
                </a:moveTo>
                <a:lnTo>
                  <a:pt x="12105" y="8275"/>
                </a:lnTo>
              </a:path>
              <a:path w="3613" h="5042">
                <a:moveTo>
                  <a:pt x="12700" y="7818"/>
                </a:moveTo>
                <a:lnTo>
                  <a:pt x="12700" y="7818"/>
                </a:lnTo>
              </a:path>
              <a:path w="3613" h="5042">
                <a:moveTo>
                  <a:pt x="10795" y="7064"/>
                </a:moveTo>
                <a:lnTo>
                  <a:pt x="10795" y="7064"/>
                </a:lnTo>
              </a:path>
              <a:path w="3613" h="5042">
                <a:moveTo>
                  <a:pt x="11132" y="6668"/>
                </a:moveTo>
                <a:lnTo>
                  <a:pt x="11132" y="6668"/>
                </a:lnTo>
              </a:path>
              <a:path w="3613" h="5042">
                <a:moveTo>
                  <a:pt x="11509" y="6390"/>
                </a:moveTo>
                <a:lnTo>
                  <a:pt x="11509" y="6390"/>
                </a:lnTo>
              </a:path>
              <a:path w="3613" h="5042">
                <a:moveTo>
                  <a:pt x="10894" y="5794"/>
                </a:moveTo>
                <a:lnTo>
                  <a:pt x="10894" y="5794"/>
                </a:lnTo>
              </a:path>
              <a:path w="3613" h="5042">
                <a:moveTo>
                  <a:pt x="9981" y="5973"/>
                </a:moveTo>
                <a:lnTo>
                  <a:pt x="9981" y="5973"/>
                </a:lnTo>
              </a:path>
              <a:path w="3613" h="5042">
                <a:moveTo>
                  <a:pt x="13593" y="8414"/>
                </a:moveTo>
                <a:lnTo>
                  <a:pt x="13593" y="841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29200" y="2314440"/>
            <a:ext cx="85680" cy="557280"/>
          </a:xfrm>
          <a:custGeom>
            <a:avLst/>
            <a:gdLst/>
            <a:ahLst/>
            <a:rect l="l" t="t" r="r" b="b"/>
            <a:pathLst>
              <a:path w="239" h="1549">
                <a:moveTo>
                  <a:pt x="13990" y="7977"/>
                </a:moveTo>
                <a:lnTo>
                  <a:pt x="13990" y="7977"/>
                </a:lnTo>
              </a:path>
              <a:path w="239" h="1549">
                <a:moveTo>
                  <a:pt x="13970" y="7164"/>
                </a:moveTo>
                <a:lnTo>
                  <a:pt x="13970" y="7164"/>
                </a:lnTo>
              </a:path>
              <a:path w="239" h="1549">
                <a:moveTo>
                  <a:pt x="14208" y="6429"/>
                </a:moveTo>
                <a:lnTo>
                  <a:pt x="14208" y="6429"/>
                </a:lnTo>
              </a:path>
              <a:path w="239" h="1549">
                <a:moveTo>
                  <a:pt x="14208" y="7302"/>
                </a:moveTo>
                <a:lnTo>
                  <a:pt x="14208" y="730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07040" y="2178000"/>
            <a:ext cx="93600" cy="301680"/>
          </a:xfrm>
          <a:custGeom>
            <a:avLst/>
            <a:gdLst/>
            <a:ahLst/>
            <a:rect l="l" t="t" r="r" b="b"/>
            <a:pathLst>
              <a:path w="259" h="835">
                <a:moveTo>
                  <a:pt x="14724" y="6886"/>
                </a:moveTo>
                <a:lnTo>
                  <a:pt x="14724" y="6886"/>
                </a:lnTo>
              </a:path>
              <a:path w="259" h="835">
                <a:moveTo>
                  <a:pt x="14466" y="6052"/>
                </a:moveTo>
                <a:lnTo>
                  <a:pt x="14466" y="6052"/>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421240" y="1778040"/>
            <a:ext cx="36720" cy="272880"/>
          </a:xfrm>
          <a:custGeom>
            <a:avLst/>
            <a:gdLst/>
            <a:ahLst/>
            <a:rect l="l" t="t" r="r" b="b"/>
            <a:pathLst>
              <a:path w="101" h="755">
                <a:moveTo>
                  <a:pt x="15061" y="5695"/>
                </a:moveTo>
                <a:lnTo>
                  <a:pt x="15061" y="5695"/>
                </a:lnTo>
              </a:path>
              <a:path w="101" h="755">
                <a:moveTo>
                  <a:pt x="15161" y="4941"/>
                </a:moveTo>
                <a:lnTo>
                  <a:pt x="15161" y="4941"/>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371760" y="2057400"/>
            <a:ext cx="57240" cy="108000"/>
          </a:xfrm>
          <a:custGeom>
            <a:avLst/>
            <a:gdLst/>
            <a:ahLst/>
            <a:rect l="l" t="t" r="r" b="b"/>
            <a:pathLst>
              <a:path w="160" h="299">
                <a:moveTo>
                  <a:pt x="9366" y="5715"/>
                </a:moveTo>
                <a:lnTo>
                  <a:pt x="9366" y="5715"/>
                </a:lnTo>
              </a:path>
              <a:path w="160" h="299">
                <a:moveTo>
                  <a:pt x="9525" y="6013"/>
                </a:moveTo>
                <a:lnTo>
                  <a:pt x="9525" y="601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514680" y="1906560"/>
            <a:ext cx="1800" cy="158760"/>
          </a:xfrm>
          <a:custGeom>
            <a:avLst/>
            <a:gdLst/>
            <a:ahLst/>
            <a:rect l="l" t="t" r="r" b="b"/>
            <a:pathLst>
              <a:path w="1" h="438">
                <a:moveTo>
                  <a:pt x="9763" y="5298"/>
                </a:moveTo>
                <a:lnTo>
                  <a:pt x="9763" y="5298"/>
                </a:lnTo>
              </a:path>
              <a:path w="1" h="438">
                <a:moveTo>
                  <a:pt x="9763" y="5735"/>
                </a:moveTo>
                <a:lnTo>
                  <a:pt x="9763" y="5735"/>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714840" y="2006640"/>
            <a:ext cx="1440" cy="1440"/>
          </a:xfrm>
          <a:custGeom>
            <a:avLst/>
            <a:gdLst/>
            <a:ahLst/>
            <a:rect l="l" t="t" r="r" b="b"/>
            <a:pathLst>
              <a:path w="1" h="1">
                <a:moveTo>
                  <a:pt x="10319" y="5576"/>
                </a:moveTo>
                <a:lnTo>
                  <a:pt x="10319" y="557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751200" y="1836720"/>
            <a:ext cx="1800" cy="1440"/>
          </a:xfrm>
          <a:custGeom>
            <a:avLst/>
            <a:gdLst/>
            <a:ahLst/>
            <a:rect l="l" t="t" r="r" b="b"/>
            <a:pathLst>
              <a:path w="1" h="1">
                <a:moveTo>
                  <a:pt x="10418" y="5100"/>
                </a:moveTo>
                <a:lnTo>
                  <a:pt x="10418" y="510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3936960" y="1900080"/>
            <a:ext cx="1800" cy="1800"/>
          </a:xfrm>
          <a:custGeom>
            <a:avLst/>
            <a:gdLst/>
            <a:ahLst/>
            <a:rect l="l" t="t" r="r" b="b"/>
            <a:pathLst>
              <a:path w="1" h="1">
                <a:moveTo>
                  <a:pt x="10934" y="5278"/>
                </a:moveTo>
                <a:lnTo>
                  <a:pt x="10934" y="5278"/>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71960" y="1771560"/>
            <a:ext cx="1440" cy="1800"/>
          </a:xfrm>
          <a:custGeom>
            <a:avLst/>
            <a:gdLst/>
            <a:ahLst/>
            <a:rect l="l" t="t" r="r" b="b"/>
            <a:pathLst>
              <a:path w="1" h="1">
                <a:moveTo>
                  <a:pt x="11311" y="4921"/>
                </a:moveTo>
                <a:lnTo>
                  <a:pt x="11311" y="492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357720" y="1671480"/>
            <a:ext cx="42840" cy="136800"/>
          </a:xfrm>
          <a:custGeom>
            <a:avLst/>
            <a:gdLst/>
            <a:ahLst/>
            <a:rect l="l" t="t" r="r" b="b"/>
            <a:pathLst>
              <a:path w="120" h="378">
                <a:moveTo>
                  <a:pt x="9446" y="4643"/>
                </a:moveTo>
                <a:lnTo>
                  <a:pt x="9446" y="4643"/>
                </a:lnTo>
              </a:path>
              <a:path w="120" h="378">
                <a:moveTo>
                  <a:pt x="9327" y="5020"/>
                </a:moveTo>
                <a:lnTo>
                  <a:pt x="9327" y="5020"/>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22760" y="1700280"/>
            <a:ext cx="1440" cy="1440"/>
          </a:xfrm>
          <a:custGeom>
            <a:avLst/>
            <a:gdLst/>
            <a:ahLst/>
            <a:rect l="l" t="t" r="r" b="b"/>
            <a:pathLst>
              <a:path w="1" h="1">
                <a:moveTo>
                  <a:pt x="10339" y="4723"/>
                </a:moveTo>
                <a:lnTo>
                  <a:pt x="10339" y="472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3936960" y="1600200"/>
            <a:ext cx="1800" cy="1440"/>
          </a:xfrm>
          <a:custGeom>
            <a:avLst/>
            <a:gdLst/>
            <a:ahLst/>
            <a:rect l="l" t="t" r="r" b="b"/>
            <a:pathLst>
              <a:path w="1" h="1">
                <a:moveTo>
                  <a:pt x="10934" y="4445"/>
                </a:moveTo>
                <a:lnTo>
                  <a:pt x="10934" y="444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4257720" y="1592280"/>
            <a:ext cx="1440" cy="1440"/>
          </a:xfrm>
          <a:custGeom>
            <a:avLst/>
            <a:gdLst/>
            <a:ahLst/>
            <a:rect l="l" t="t" r="r" b="b"/>
            <a:pathLst>
              <a:path w="1" h="1">
                <a:moveTo>
                  <a:pt x="11827" y="4425"/>
                </a:moveTo>
                <a:lnTo>
                  <a:pt x="11827" y="442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4722840" y="1677960"/>
            <a:ext cx="6480" cy="150840"/>
          </a:xfrm>
          <a:custGeom>
            <a:avLst/>
            <a:gdLst/>
            <a:ahLst/>
            <a:rect l="l" t="t" r="r" b="b"/>
            <a:pathLst>
              <a:path w="21" h="418">
                <a:moveTo>
                  <a:pt x="13137" y="5080"/>
                </a:moveTo>
                <a:lnTo>
                  <a:pt x="13137" y="5080"/>
                </a:lnTo>
              </a:path>
              <a:path w="21" h="418">
                <a:moveTo>
                  <a:pt x="13117" y="4663"/>
                </a:moveTo>
                <a:lnTo>
                  <a:pt x="13117" y="466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908600" y="1708200"/>
            <a:ext cx="114120" cy="414360"/>
          </a:xfrm>
          <a:custGeom>
            <a:avLst/>
            <a:gdLst/>
            <a:ahLst/>
            <a:rect l="l" t="t" r="r" b="b"/>
            <a:pathLst>
              <a:path w="318" h="1152">
                <a:moveTo>
                  <a:pt x="13910" y="5894"/>
                </a:moveTo>
                <a:lnTo>
                  <a:pt x="13910" y="5894"/>
                </a:lnTo>
              </a:path>
              <a:path w="318" h="1152">
                <a:moveTo>
                  <a:pt x="13633" y="5298"/>
                </a:moveTo>
                <a:lnTo>
                  <a:pt x="13633" y="5298"/>
                </a:lnTo>
              </a:path>
              <a:path w="318" h="1152">
                <a:moveTo>
                  <a:pt x="13950" y="4743"/>
                </a:moveTo>
                <a:lnTo>
                  <a:pt x="13950" y="474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49800" y="1893960"/>
            <a:ext cx="1800" cy="1440"/>
          </a:xfrm>
          <a:custGeom>
            <a:avLst/>
            <a:gdLst/>
            <a:ahLst/>
            <a:rect l="l" t="t" r="r" b="b"/>
            <a:pathLst>
              <a:path w="1" h="1">
                <a:moveTo>
                  <a:pt x="14307" y="5259"/>
                </a:moveTo>
                <a:lnTo>
                  <a:pt x="14307" y="525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5286240" y="2014560"/>
            <a:ext cx="1800" cy="1440"/>
          </a:xfrm>
          <a:custGeom>
            <a:avLst/>
            <a:gdLst/>
            <a:ahLst/>
            <a:rect l="l" t="t" r="r" b="b"/>
            <a:pathLst>
              <a:path w="1" h="1">
                <a:moveTo>
                  <a:pt x="14684" y="5596"/>
                </a:moveTo>
                <a:lnTo>
                  <a:pt x="14684" y="559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5372280" y="2243160"/>
            <a:ext cx="1440" cy="1440"/>
          </a:xfrm>
          <a:custGeom>
            <a:avLst/>
            <a:gdLst/>
            <a:ahLst/>
            <a:rect l="l" t="t" r="r" b="b"/>
            <a:pathLst>
              <a:path w="1" h="1">
                <a:moveTo>
                  <a:pt x="14922" y="6231"/>
                </a:moveTo>
                <a:lnTo>
                  <a:pt x="14922" y="62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4321080" y="1449360"/>
            <a:ext cx="1800" cy="1440"/>
          </a:xfrm>
          <a:custGeom>
            <a:avLst/>
            <a:gdLst/>
            <a:ahLst/>
            <a:rect l="l" t="t" r="r" b="b"/>
            <a:pathLst>
              <a:path w="1" h="1">
                <a:moveTo>
                  <a:pt x="12005" y="4028"/>
                </a:moveTo>
                <a:lnTo>
                  <a:pt x="12005" y="4028"/>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4529160" y="1486080"/>
            <a:ext cx="22320" cy="242640"/>
          </a:xfrm>
          <a:custGeom>
            <a:avLst/>
            <a:gdLst/>
            <a:ahLst/>
            <a:rect l="l" t="t" r="r" b="b"/>
            <a:pathLst>
              <a:path w="60" h="675">
                <a:moveTo>
                  <a:pt x="12640" y="4128"/>
                </a:moveTo>
                <a:lnTo>
                  <a:pt x="12640" y="4128"/>
                </a:lnTo>
              </a:path>
              <a:path w="60" h="675">
                <a:moveTo>
                  <a:pt x="12581" y="4802"/>
                </a:moveTo>
                <a:lnTo>
                  <a:pt x="12581" y="4802"/>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935600" y="1528920"/>
            <a:ext cx="1440" cy="1440"/>
          </a:xfrm>
          <a:custGeom>
            <a:avLst/>
            <a:gdLst/>
            <a:ahLst/>
            <a:rect l="l" t="t" r="r" b="b"/>
            <a:pathLst>
              <a:path w="1" h="1">
                <a:moveTo>
                  <a:pt x="13712" y="4247"/>
                </a:moveTo>
                <a:lnTo>
                  <a:pt x="13712" y="4247"/>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a:off x="5243400" y="1677960"/>
            <a:ext cx="1800" cy="1440"/>
          </a:xfrm>
          <a:custGeom>
            <a:avLst/>
            <a:gdLst/>
            <a:ahLst/>
            <a:rect l="l" t="t" r="r" b="b"/>
            <a:pathLst>
              <a:path w="1" h="1">
                <a:moveTo>
                  <a:pt x="14565" y="4663"/>
                </a:moveTo>
                <a:lnTo>
                  <a:pt x="14565" y="4663"/>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a:off x="3171960" y="3921120"/>
            <a:ext cx="1440" cy="1440"/>
          </a:xfrm>
          <a:custGeom>
            <a:avLst/>
            <a:gdLst/>
            <a:ahLst/>
            <a:rect l="l" t="t" r="r" b="b"/>
            <a:pathLst>
              <a:path w="1" h="1">
                <a:moveTo>
                  <a:pt x="8811" y="10894"/>
                </a:moveTo>
                <a:lnTo>
                  <a:pt x="8811" y="1089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3265560" y="3814920"/>
            <a:ext cx="1440" cy="1440"/>
          </a:xfrm>
          <a:custGeom>
            <a:avLst/>
            <a:gdLst/>
            <a:ahLst/>
            <a:rect l="l" t="t" r="r" b="b"/>
            <a:pathLst>
              <a:path w="1" h="1">
                <a:moveTo>
                  <a:pt x="9069" y="10597"/>
                </a:moveTo>
                <a:lnTo>
                  <a:pt x="9069" y="10597"/>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3543480" y="3792600"/>
            <a:ext cx="36360" cy="216000"/>
          </a:xfrm>
          <a:custGeom>
            <a:avLst/>
            <a:gdLst/>
            <a:ahLst/>
            <a:rect l="l" t="t" r="r" b="b"/>
            <a:pathLst>
              <a:path w="101" h="596">
                <a:moveTo>
                  <a:pt x="9942" y="11132"/>
                </a:moveTo>
                <a:lnTo>
                  <a:pt x="9942" y="11132"/>
                </a:lnTo>
              </a:path>
              <a:path w="101" h="596">
                <a:moveTo>
                  <a:pt x="9842" y="10537"/>
                </a:moveTo>
                <a:lnTo>
                  <a:pt x="9842" y="10537"/>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792600" y="3835440"/>
            <a:ext cx="1440" cy="1440"/>
          </a:xfrm>
          <a:custGeom>
            <a:avLst/>
            <a:gdLst/>
            <a:ahLst/>
            <a:rect l="l" t="t" r="r" b="b"/>
            <a:pathLst>
              <a:path w="1" h="1">
                <a:moveTo>
                  <a:pt x="10537" y="10656"/>
                </a:moveTo>
                <a:lnTo>
                  <a:pt x="10537" y="10656"/>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3863880" y="4037040"/>
            <a:ext cx="1800" cy="1440"/>
          </a:xfrm>
          <a:custGeom>
            <a:avLst/>
            <a:gdLst/>
            <a:ahLst/>
            <a:rect l="l" t="t" r="r" b="b"/>
            <a:pathLst>
              <a:path w="1" h="1">
                <a:moveTo>
                  <a:pt x="10735" y="11212"/>
                </a:moveTo>
                <a:lnTo>
                  <a:pt x="10735" y="1121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3986280" y="3657600"/>
            <a:ext cx="1440" cy="1440"/>
          </a:xfrm>
          <a:custGeom>
            <a:avLst/>
            <a:gdLst/>
            <a:ahLst/>
            <a:rect l="l" t="t" r="r" b="b"/>
            <a:pathLst>
              <a:path w="1" h="1">
                <a:moveTo>
                  <a:pt x="11073" y="10160"/>
                </a:moveTo>
                <a:lnTo>
                  <a:pt x="11073" y="10160"/>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4100400" y="3886200"/>
            <a:ext cx="1800" cy="1440"/>
          </a:xfrm>
          <a:custGeom>
            <a:avLst/>
            <a:gdLst/>
            <a:ahLst/>
            <a:rect l="l" t="t" r="r" b="b"/>
            <a:pathLst>
              <a:path w="1" h="1">
                <a:moveTo>
                  <a:pt x="11390" y="10795"/>
                </a:moveTo>
                <a:lnTo>
                  <a:pt x="11390" y="1079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4308480" y="4049640"/>
            <a:ext cx="1440" cy="1800"/>
          </a:xfrm>
          <a:custGeom>
            <a:avLst/>
            <a:gdLst/>
            <a:ahLst/>
            <a:rect l="l" t="t" r="r" b="b"/>
            <a:pathLst>
              <a:path w="1" h="1">
                <a:moveTo>
                  <a:pt x="11966" y="11251"/>
                </a:moveTo>
                <a:lnTo>
                  <a:pt x="11966" y="11251"/>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4443480" y="3900600"/>
            <a:ext cx="1440" cy="1440"/>
          </a:xfrm>
          <a:custGeom>
            <a:avLst/>
            <a:gdLst/>
            <a:ahLst/>
            <a:rect l="l" t="t" r="r" b="b"/>
            <a:pathLst>
              <a:path w="1" h="1">
                <a:moveTo>
                  <a:pt x="12343" y="10835"/>
                </a:moveTo>
                <a:lnTo>
                  <a:pt x="12343" y="1083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4865760" y="4000680"/>
            <a:ext cx="1440" cy="1440"/>
          </a:xfrm>
          <a:custGeom>
            <a:avLst/>
            <a:gdLst/>
            <a:ahLst/>
            <a:rect l="l" t="t" r="r" b="b"/>
            <a:pathLst>
              <a:path w="1" h="1">
                <a:moveTo>
                  <a:pt x="13514" y="11112"/>
                </a:moveTo>
                <a:lnTo>
                  <a:pt x="13514" y="1111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4122720" y="4172040"/>
            <a:ext cx="1440" cy="1440"/>
          </a:xfrm>
          <a:custGeom>
            <a:avLst/>
            <a:gdLst/>
            <a:ahLst/>
            <a:rect l="l" t="t" r="r" b="b"/>
            <a:pathLst>
              <a:path w="1" h="1">
                <a:moveTo>
                  <a:pt x="11450" y="11589"/>
                </a:moveTo>
                <a:lnTo>
                  <a:pt x="11450" y="11589"/>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4335480" y="3821040"/>
            <a:ext cx="1440" cy="1800"/>
          </a:xfrm>
          <a:custGeom>
            <a:avLst/>
            <a:gdLst/>
            <a:ahLst/>
            <a:rect l="l" t="t" r="r" b="b"/>
            <a:pathLst>
              <a:path w="1" h="1">
                <a:moveTo>
                  <a:pt x="12045" y="10616"/>
                </a:moveTo>
                <a:lnTo>
                  <a:pt x="12045" y="10616"/>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4722840" y="3606840"/>
            <a:ext cx="1440" cy="1440"/>
          </a:xfrm>
          <a:custGeom>
            <a:avLst/>
            <a:gdLst/>
            <a:ahLst/>
            <a:rect l="l" t="t" r="r" b="b"/>
            <a:pathLst>
              <a:path w="1" h="1">
                <a:moveTo>
                  <a:pt x="13117" y="10021"/>
                </a:moveTo>
                <a:lnTo>
                  <a:pt x="13117" y="10021"/>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5106960" y="3708360"/>
            <a:ext cx="1440" cy="1800"/>
          </a:xfrm>
          <a:custGeom>
            <a:avLst/>
            <a:gdLst/>
            <a:ahLst/>
            <a:rect l="l" t="t" r="r" b="b"/>
            <a:pathLst>
              <a:path w="1" h="1">
                <a:moveTo>
                  <a:pt x="14188" y="10299"/>
                </a:moveTo>
                <a:lnTo>
                  <a:pt x="14188" y="10299"/>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5029200" y="3443400"/>
            <a:ext cx="1440" cy="1440"/>
          </a:xfrm>
          <a:custGeom>
            <a:avLst/>
            <a:gdLst/>
            <a:ahLst/>
            <a:rect l="l" t="t" r="r" b="b"/>
            <a:pathLst>
              <a:path w="1" h="1">
                <a:moveTo>
                  <a:pt x="13970" y="9565"/>
                </a:moveTo>
                <a:lnTo>
                  <a:pt x="13970" y="956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372280" y="3600360"/>
            <a:ext cx="1440" cy="1800"/>
          </a:xfrm>
          <a:custGeom>
            <a:avLst/>
            <a:gdLst/>
            <a:ahLst/>
            <a:rect l="l" t="t" r="r" b="b"/>
            <a:pathLst>
              <a:path w="1" h="1">
                <a:moveTo>
                  <a:pt x="14922" y="10001"/>
                </a:moveTo>
                <a:lnTo>
                  <a:pt x="14922" y="10001"/>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5214960" y="3100320"/>
            <a:ext cx="450720" cy="250920"/>
          </a:xfrm>
          <a:custGeom>
            <a:avLst/>
            <a:gdLst/>
            <a:ahLst/>
            <a:rect l="l" t="t" r="r" b="b"/>
            <a:pathLst>
              <a:path w="1251" h="696">
                <a:moveTo>
                  <a:pt x="14486" y="8612"/>
                </a:moveTo>
                <a:lnTo>
                  <a:pt x="14486" y="8612"/>
                </a:lnTo>
              </a:path>
              <a:path w="1251" h="696">
                <a:moveTo>
                  <a:pt x="15002" y="9088"/>
                </a:moveTo>
                <a:lnTo>
                  <a:pt x="15002" y="9088"/>
                </a:lnTo>
              </a:path>
              <a:path w="1251" h="696">
                <a:moveTo>
                  <a:pt x="15736" y="9307"/>
                </a:moveTo>
                <a:lnTo>
                  <a:pt x="15736" y="9307"/>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21240" y="3006720"/>
            <a:ext cx="1800" cy="1440"/>
          </a:xfrm>
          <a:custGeom>
            <a:avLst/>
            <a:gdLst/>
            <a:ahLst/>
            <a:rect l="l" t="t" r="r" b="b"/>
            <a:pathLst>
              <a:path w="1" h="1">
                <a:moveTo>
                  <a:pt x="15061" y="8354"/>
                </a:moveTo>
                <a:lnTo>
                  <a:pt x="15061" y="835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5629320" y="3049560"/>
            <a:ext cx="1440" cy="1440"/>
          </a:xfrm>
          <a:custGeom>
            <a:avLst/>
            <a:gdLst/>
            <a:ahLst/>
            <a:rect l="l" t="t" r="r" b="b"/>
            <a:pathLst>
              <a:path w="1" h="1">
                <a:moveTo>
                  <a:pt x="15637" y="8473"/>
                </a:moveTo>
                <a:lnTo>
                  <a:pt x="15637" y="8473"/>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5457960" y="2720880"/>
            <a:ext cx="264960" cy="165240"/>
          </a:xfrm>
          <a:custGeom>
            <a:avLst/>
            <a:gdLst/>
            <a:ahLst/>
            <a:rect l="l" t="t" r="r" b="b"/>
            <a:pathLst>
              <a:path w="735" h="458">
                <a:moveTo>
                  <a:pt x="15161" y="7560"/>
                </a:moveTo>
                <a:lnTo>
                  <a:pt x="15161" y="7560"/>
                </a:lnTo>
              </a:path>
              <a:path w="735" h="458">
                <a:moveTo>
                  <a:pt x="15895" y="8017"/>
                </a:moveTo>
                <a:lnTo>
                  <a:pt x="15895" y="8017"/>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657760" y="2685960"/>
            <a:ext cx="1800" cy="1800"/>
          </a:xfrm>
          <a:custGeom>
            <a:avLst/>
            <a:gdLst/>
            <a:ahLst/>
            <a:rect l="l" t="t" r="r" b="b"/>
            <a:pathLst>
              <a:path w="1" h="1">
                <a:moveTo>
                  <a:pt x="15716" y="7461"/>
                </a:moveTo>
                <a:lnTo>
                  <a:pt x="15716" y="7461"/>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5521320" y="2371680"/>
            <a:ext cx="165240" cy="114480"/>
          </a:xfrm>
          <a:custGeom>
            <a:avLst/>
            <a:gdLst/>
            <a:ahLst/>
            <a:rect l="l" t="t" r="r" b="b"/>
            <a:pathLst>
              <a:path w="458" h="319">
                <a:moveTo>
                  <a:pt x="15339" y="6588"/>
                </a:moveTo>
                <a:lnTo>
                  <a:pt x="15339" y="6588"/>
                </a:lnTo>
              </a:path>
              <a:path w="458" h="319">
                <a:moveTo>
                  <a:pt x="15796" y="6906"/>
                </a:moveTo>
                <a:lnTo>
                  <a:pt x="15796" y="6906"/>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621400" y="2257560"/>
            <a:ext cx="358560" cy="279360"/>
          </a:xfrm>
          <a:custGeom>
            <a:avLst/>
            <a:gdLst/>
            <a:ahLst/>
            <a:rect l="l" t="t" r="r" b="b"/>
            <a:pathLst>
              <a:path w="993" h="775">
                <a:moveTo>
                  <a:pt x="16609" y="7045"/>
                </a:moveTo>
                <a:lnTo>
                  <a:pt x="16609" y="7045"/>
                </a:lnTo>
              </a:path>
              <a:path w="993" h="775">
                <a:moveTo>
                  <a:pt x="15617" y="6271"/>
                </a:moveTo>
                <a:lnTo>
                  <a:pt x="15617" y="6271"/>
                </a:lnTo>
              </a:path>
              <a:path w="993" h="775">
                <a:moveTo>
                  <a:pt x="16232" y="6628"/>
                </a:moveTo>
                <a:lnTo>
                  <a:pt x="16232" y="6628"/>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700600" y="2014560"/>
            <a:ext cx="165240" cy="108000"/>
          </a:xfrm>
          <a:custGeom>
            <a:avLst/>
            <a:gdLst/>
            <a:ahLst/>
            <a:rect l="l" t="t" r="r" b="b"/>
            <a:pathLst>
              <a:path w="458" h="299">
                <a:moveTo>
                  <a:pt x="16292" y="5894"/>
                </a:moveTo>
                <a:lnTo>
                  <a:pt x="16292" y="5894"/>
                </a:lnTo>
              </a:path>
              <a:path w="458" h="299">
                <a:moveTo>
                  <a:pt x="15835" y="5596"/>
                </a:moveTo>
                <a:lnTo>
                  <a:pt x="15835" y="5596"/>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65600" y="4229280"/>
            <a:ext cx="1800" cy="1440"/>
          </a:xfrm>
          <a:custGeom>
            <a:avLst/>
            <a:gdLst/>
            <a:ahLst/>
            <a:rect l="l" t="t" r="r" b="b"/>
            <a:pathLst>
              <a:path w="1" h="1">
                <a:moveTo>
                  <a:pt x="12958" y="11748"/>
                </a:moveTo>
                <a:lnTo>
                  <a:pt x="12958" y="11748"/>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5164200" y="4257720"/>
            <a:ext cx="1440" cy="1440"/>
          </a:xfrm>
          <a:custGeom>
            <a:avLst/>
            <a:gdLst/>
            <a:ahLst/>
            <a:rect l="l" t="t" r="r" b="b"/>
            <a:pathLst>
              <a:path w="1" h="1">
                <a:moveTo>
                  <a:pt x="14347" y="11827"/>
                </a:moveTo>
                <a:lnTo>
                  <a:pt x="14347" y="11827"/>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5580000" y="4179960"/>
            <a:ext cx="1800" cy="1440"/>
          </a:xfrm>
          <a:custGeom>
            <a:avLst/>
            <a:gdLst/>
            <a:ahLst/>
            <a:rect l="l" t="t" r="r" b="b"/>
            <a:pathLst>
              <a:path w="1" h="1">
                <a:moveTo>
                  <a:pt x="15498" y="11609"/>
                </a:moveTo>
                <a:lnTo>
                  <a:pt x="15498" y="11609"/>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5400720" y="3951360"/>
            <a:ext cx="1440" cy="1440"/>
          </a:xfrm>
          <a:custGeom>
            <a:avLst/>
            <a:gdLst/>
            <a:ahLst/>
            <a:rect l="l" t="t" r="r" b="b"/>
            <a:pathLst>
              <a:path w="1" h="1">
                <a:moveTo>
                  <a:pt x="15002" y="10974"/>
                </a:moveTo>
                <a:lnTo>
                  <a:pt x="15002" y="1097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5707080" y="4000680"/>
            <a:ext cx="1440" cy="1440"/>
          </a:xfrm>
          <a:custGeom>
            <a:avLst/>
            <a:gdLst/>
            <a:ahLst/>
            <a:rect l="l" t="t" r="r" b="b"/>
            <a:pathLst>
              <a:path w="1" h="1">
                <a:moveTo>
                  <a:pt x="15855" y="11112"/>
                </a:moveTo>
                <a:lnTo>
                  <a:pt x="15855" y="1111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5543640" y="3722760"/>
            <a:ext cx="264960" cy="85680"/>
          </a:xfrm>
          <a:custGeom>
            <a:avLst/>
            <a:gdLst/>
            <a:ahLst/>
            <a:rect l="l" t="t" r="r" b="b"/>
            <a:pathLst>
              <a:path w="735" h="239">
                <a:moveTo>
                  <a:pt x="15399" y="10339"/>
                </a:moveTo>
                <a:lnTo>
                  <a:pt x="15399" y="10339"/>
                </a:lnTo>
              </a:path>
              <a:path w="735" h="239">
                <a:moveTo>
                  <a:pt x="16133" y="10577"/>
                </a:moveTo>
                <a:lnTo>
                  <a:pt x="16133" y="10577"/>
                </a:lnTo>
              </a:path>
            </a:pathLst>
          </a:custGeom>
          <a:noFill/>
          <a:ln cap="rnd" w="34920">
            <a:solidFill>
              <a:srgbClr val="0000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 name=""/>
          <p:cNvSpPr/>
          <p:nvPr/>
        </p:nvSpPr>
        <p:spPr>
          <a:xfrm>
            <a:off x="5207040" y="3357720"/>
            <a:ext cx="522360" cy="214200"/>
          </a:xfrm>
          <a:custGeom>
            <a:avLst/>
            <a:gdLst/>
            <a:ahLst/>
            <a:rect l="l" t="t" r="r" b="b"/>
            <a:pathLst>
              <a:path w="1450" h="596">
                <a:moveTo>
                  <a:pt x="14585" y="9327"/>
                </a:moveTo>
                <a:cubicBezTo>
                  <a:pt x="14545" y="9327"/>
                  <a:pt x="14506" y="9327"/>
                  <a:pt x="14466" y="9327"/>
                </a:cubicBezTo>
              </a:path>
              <a:path w="1450" h="596">
                <a:moveTo>
                  <a:pt x="15915" y="9922"/>
                </a:moveTo>
                <a:lnTo>
                  <a:pt x="15915" y="9922"/>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008760" y="3564000"/>
            <a:ext cx="1440" cy="1440"/>
          </a:xfrm>
          <a:custGeom>
            <a:avLst/>
            <a:gdLst/>
            <a:ahLst/>
            <a:rect l="l" t="t" r="r" b="b"/>
            <a:pathLst>
              <a:path w="1" h="1">
                <a:moveTo>
                  <a:pt x="16689" y="9902"/>
                </a:moveTo>
                <a:lnTo>
                  <a:pt x="16689" y="990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5900760" y="3214800"/>
            <a:ext cx="1440" cy="1440"/>
          </a:xfrm>
          <a:custGeom>
            <a:avLst/>
            <a:gdLst/>
            <a:ahLst/>
            <a:rect l="l" t="t" r="r" b="b"/>
            <a:pathLst>
              <a:path w="1" h="1">
                <a:moveTo>
                  <a:pt x="16391" y="8930"/>
                </a:moveTo>
                <a:lnTo>
                  <a:pt x="16391" y="8930"/>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6237360" y="3228840"/>
            <a:ext cx="1440" cy="1800"/>
          </a:xfrm>
          <a:custGeom>
            <a:avLst/>
            <a:gdLst/>
            <a:ahLst/>
            <a:rect l="l" t="t" r="r" b="b"/>
            <a:pathLst>
              <a:path w="1" h="1">
                <a:moveTo>
                  <a:pt x="17324" y="8969"/>
                </a:moveTo>
                <a:lnTo>
                  <a:pt x="17324" y="8969"/>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6058080" y="3014640"/>
            <a:ext cx="1440" cy="1440"/>
          </a:xfrm>
          <a:custGeom>
            <a:avLst/>
            <a:gdLst/>
            <a:ahLst/>
            <a:rect l="l" t="t" r="r" b="b"/>
            <a:pathLst>
              <a:path w="1" h="1">
                <a:moveTo>
                  <a:pt x="16828" y="8374"/>
                </a:moveTo>
                <a:lnTo>
                  <a:pt x="16828" y="837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6094440" y="2778120"/>
            <a:ext cx="1440" cy="1440"/>
          </a:xfrm>
          <a:custGeom>
            <a:avLst/>
            <a:gdLst/>
            <a:ahLst/>
            <a:rect l="l" t="t" r="r" b="b"/>
            <a:pathLst>
              <a:path w="1" h="1">
                <a:moveTo>
                  <a:pt x="16927" y="7719"/>
                </a:moveTo>
                <a:lnTo>
                  <a:pt x="16927" y="7719"/>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6180120" y="2506680"/>
            <a:ext cx="1440" cy="1440"/>
          </a:xfrm>
          <a:custGeom>
            <a:avLst/>
            <a:gdLst/>
            <a:ahLst/>
            <a:rect l="l" t="t" r="r" b="b"/>
            <a:pathLst>
              <a:path w="1" h="1">
                <a:moveTo>
                  <a:pt x="17165" y="6965"/>
                </a:moveTo>
                <a:lnTo>
                  <a:pt x="17165" y="696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5878440" y="1936800"/>
            <a:ext cx="401760" cy="349200"/>
          </a:xfrm>
          <a:custGeom>
            <a:avLst/>
            <a:gdLst/>
            <a:ahLst/>
            <a:rect l="l" t="t" r="r" b="b"/>
            <a:pathLst>
              <a:path w="1113" h="973">
                <a:moveTo>
                  <a:pt x="17443" y="6350"/>
                </a:moveTo>
                <a:lnTo>
                  <a:pt x="17443" y="6350"/>
                </a:lnTo>
              </a:path>
              <a:path w="1113" h="973">
                <a:moveTo>
                  <a:pt x="17046" y="6350"/>
                </a:moveTo>
                <a:lnTo>
                  <a:pt x="17046" y="6350"/>
                </a:lnTo>
              </a:path>
              <a:path w="1113" h="973">
                <a:moveTo>
                  <a:pt x="16887" y="5854"/>
                </a:moveTo>
                <a:lnTo>
                  <a:pt x="16887" y="5854"/>
                </a:lnTo>
              </a:path>
              <a:path w="1113" h="973">
                <a:moveTo>
                  <a:pt x="16331" y="5378"/>
                </a:moveTo>
                <a:lnTo>
                  <a:pt x="16331" y="5378"/>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Under what conditions is the majority superior to the few?</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ny must not be too vici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must be some diversity of views and abilities that can be rationally shaped by delib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ew must not be too superior in virt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ny are only wise collectively and only with regards to judging, not initiating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the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the people collectively are good judges of charac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ing to account: the people are like the “users” of the common good, and hence are good at judging the performance of offic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22:10:07Z</dcterms:created>
  <dc:creator>Full Name</dc:creator>
  <dc:description/>
  <dc:language>en-US</dc:language>
  <cp:lastModifiedBy>Full Name</cp:lastModifiedBy>
  <dcterms:modified xsi:type="dcterms:W3CDTF">2008-07-24T20:45:23Z</dcterms:modified>
  <cp:revision>17</cp:revision>
  <dc:subject/>
  <dc:title>Aristotle </dc:title>
</cp:coreProperties>
</file>